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736DF97-1EDB-4F50-B86C-85280CA1AA9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4A381C3-25E4-481B-A392-8C49E0E3819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E937A2D-D305-4650-BD62-FC0776FE582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A6E87A6-E7D7-4C1F-A097-28972F24840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1310554-3618-4DE2-B3E8-AD4306520A8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E838565-A654-4834-BCB8-C1313A4B312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AFB3C36-7F50-48B1-B694-D31D5AE5065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3AAD18D-120D-4F36-8BBF-1829020A17C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81F3B23-4DC4-4F89-9658-0559F7EA309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D6F0DD-EEE1-486D-9C25-0C1BFD58F1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DEB41-7AAE-4489-86D4-7DC818C0B2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D93C37-2D64-4CD9-B975-4DF48E83F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4EF9C4-180E-47AD-B298-30866694B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A8D83B-D664-4BD5-99DD-F46518808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663403-609C-41EE-9355-2CF254BB89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4CC4E7-1A8A-46F9-AE9C-A23B7266E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253F0-BE02-4BC8-9A93-151F06CA63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FE367B-0F4D-4FC2-892A-497213FA7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AF0F30-44AE-4B83-B35C-59DDAE923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56BE4D-CD29-4C31-9C1F-1832F4C521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ED759C-F9EB-4118-B090-04527EB9A2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F868F57-9CCA-4FA1-BA29-75193F6ABE2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7F9FD1E-C911-4142-8642-1C0A383FDCE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6271CBF-D1EC-4CFB-AD31-63E9530A87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CA97CA-9DD0-436C-AD88-0067E380E1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44D8B1-14AC-4604-AFF3-6288D9C203F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7B06E7-303E-4803-BFBC-D478E4A084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765338-CDA0-4DFB-94B5-AEC6BD8BD1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26CBDA-22AA-46F5-80EF-32CBD4F4CC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D7503F-B669-4F74-B859-90F2BA7209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379946-2B5B-4E53-ACFB-77A7078E8F6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01B0681-BA15-4BF0-85B4-A595F6519DE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EE7B280-EFEA-4263-A2F9-18C42005872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FC8C64F-970A-4FE0-9C15-F5C87342EE5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12C0FF-CF81-48FD-ACC2-14C8A597C41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9EADB3-CF0F-4685-A842-125B38AA42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4EDA07-92A6-42E7-BA52-5570B1A280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218E3F9-680C-4A44-8A44-1C4BE2BCBB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C78D38D-1B05-4240-977D-8BCD038448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1404D47-6430-411B-9EA3-FF4FC2B545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9299F1-D87E-46B3-AEA0-A4DA9F72CE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3ACAE5-C21E-41BB-85C7-A5B0B3341F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AB889FC-A79F-4AA0-B69F-9091626C78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1CD0A37-722A-4929-8240-842DF5BC4A2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E24B626-B7C7-4D1B-9025-A7C4FD9E595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13E41E9-0B86-4450-A433-DF26E7D33C2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345EEA2-7F31-43F5-8455-99DE71FC539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C218475-E279-4DD7-A2A6-42A9DA473B3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0F8EC29-1D0A-42C2-BF2F-2B4C5F9922A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813AA63-4AFB-4302-AC84-0A5D33E26FF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3F59BF8-357B-4AA1-8423-4F6A4A2FFFB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A48F69-3FF5-4904-A5E4-61302A4E7C8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0EF11F5-CCC7-41BB-908F-6F9B16FDFB0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F8C75E4-3D36-4538-8C5B-1FBFF311FE1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D6B9664-7A13-4E03-895A-0BF0ABFEDA8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0FB61ED-0A63-4D86-B4EC-9989F88F9A5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C0B04CF-CD68-4A43-A96C-A20F5CDD292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8627900-E3EA-4438-814B-0A1592A0F55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2F05138-E056-4063-B7DF-DCC271FDA4F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EEE286D-06A0-4548-A863-90936D3F95B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70F194B-521C-490A-BF4E-F9A5D90B295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1A39398-FF29-4E64-9AA3-7B04A5ADD7F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E5688B3-7F78-4119-AB88-1A0882B107E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AF3B78-7849-4696-BE41-8D35B4BB2E7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B18235A-0A1A-499D-AF0D-AEC2C51E83B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2B80F86-AC4A-4CE4-9624-D4C6D0D3A72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BD347EE-C1ED-4B98-B466-B625A44637C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AB88106-9175-4260-BFCB-0EADC4676F5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D0FDCE1-6223-4D04-8CBA-4957C5A4466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92757B3-8CE4-4A8B-BDDB-A78DDEC38D9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2A7A86B-AF61-42BD-ACB0-D67069DAEDA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9EE05B5-49FB-4782-B0FF-2E1F70307DB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01C5E82-F3BE-4BA6-980A-33E51E0ADA9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2B59E13-8037-4F16-A8B2-F5F6F316081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BEEA1D2-EC13-4669-8A60-920C036E0E8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3FA98DE-0B6E-4698-8C15-4F18B687690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8661E01-66CC-4CFE-BC47-2B600FDD456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F8BC322-DE55-45DF-A80A-E534B9D309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52CBFAE-B5F7-4BC8-8DDF-102FAA96E5B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5961278-B4F9-4FC1-87BE-B599F46C9C2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75A13BE-1B44-40E5-9CC4-E34CC2E2BA0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332C76A-D5D1-4458-81BC-B1D7E600142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6586200-E68F-4A6C-AA8E-3DC16242720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B61E24B-80C4-478A-ADAB-8FB67877ECA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E28BEC3-B29C-47B5-97B8-3FF61CEF5A1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9042AE6-B265-492E-9826-7A550B52944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6DA1932-8877-421C-91F2-6ED05807331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22FA7B6-51A0-40FA-8E03-B259561F8F7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5ED34E6-8BC9-4FBE-B495-4376B2242A6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931F831-1FDF-432F-9924-D05BFFA31D2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BD0C99C-DB84-4AAB-BCF9-96B26660157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755FC0E-2B1C-44E4-82C5-FEEEC40E2C5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60454FA-C2A6-4AB7-81EE-03D59F2E0DB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84B215C-1EDD-4C40-9428-C51EE888165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9F3D871-0B4C-4FBA-91A5-00300CF2B98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B3E8BD8-96F8-4CD6-8D64-567ED3C40C3F}"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1"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D923-7682-4E5B-A56A-B34FFDBFBF10}"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83"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5"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6"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9664-5A25-4102-8A09-45C8AA210300}"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125"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7"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7D66-3206-4834-8BD4-6B5034BC8AB7}"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167"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69"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70"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171"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D47F-2C56-41EC-B6F4-219E83C99D4D}"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209"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11"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1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21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CAB0-FCC1-413F-BD89-FF75A9057949}"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251"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53"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54"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255"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F378-1AFC-41EB-8DE9-A37CEDF14620}"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293"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294"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95"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96"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7"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1509-9CF4-462B-8AF8-21CDF05F4313}"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335"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37"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38"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39"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9D54B-E7A0-4836-A587-3546ED21F272}"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2130120"/>
            <a:ext cx="7772400" cy="146988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ading Skills</a:t>
            </a:r>
            <a:endParaRPr b="0" lang="en-US" sz="4400" spc="-1" strike="noStrike">
              <a:solidFill>
                <a:srgbClr val="000000"/>
              </a:solidFill>
              <a:latin typeface="Comic Sans MS"/>
            </a:endParaRPr>
          </a:p>
        </p:txBody>
      </p:sp>
      <p:sp>
        <p:nvSpPr>
          <p:cNvPr id="378" name="PlaceHolder 2"/>
          <p:cNvSpPr>
            <a:spLocks noGrp="1"/>
          </p:cNvSpPr>
          <p:nvPr>
            <p:ph type="subTitle"/>
          </p:nvPr>
        </p:nvSpPr>
        <p:spPr>
          <a:xfrm>
            <a:off x="1371600" y="3886200"/>
            <a:ext cx="6400800" cy="1752480"/>
          </a:xfrm>
          <a:prstGeom prst="rect">
            <a:avLst/>
          </a:prstGeom>
          <a:solidFill>
            <a:srgbClr val="ffffff"/>
          </a:solidFill>
          <a:ln w="38160">
            <a:solidFill>
              <a:srgbClr val="7030a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ext Retrieval 3 - Paragraph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09" name="Content Placeholder 2" descr=""/>
          <p:cNvPicPr/>
          <p:nvPr/>
        </p:nvPicPr>
        <p:blipFill>
          <a:blip r:embed="rId1"/>
          <a:stretch/>
        </p:blipFill>
        <p:spPr>
          <a:xfrm>
            <a:off x="365040" y="1566720"/>
            <a:ext cx="8377200" cy="4578480"/>
          </a:xfrm>
          <a:prstGeom prst="rect">
            <a:avLst/>
          </a:prstGeom>
          <a:ln w="38160">
            <a:solidFill>
              <a:srgbClr val="7030a0"/>
            </a:solidFill>
            <a:miter/>
          </a:ln>
        </p:spPr>
      </p:pic>
      <p:pic>
        <p:nvPicPr>
          <p:cNvPr id="410"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12"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Comic Sans MS"/>
              </a:rPr>
              <a:t>He pushed the heavy wooden door open. At first he saw nothing, then as his eyes adjusted to the darkness, he saw it! A small brass handle set in the middle of the tiled floor. Swiftly, he crossed the dusty tiles and knelt by the handle. This was the moment he had longed for – could he do it? Could he free himself from the burden he had carried for so long? He swallowed hard and grasped the handle – it was now or never!</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covers the floor?</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ere is the brass handle?</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13"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15" name="Content Placeholder 2" descr=""/>
          <p:cNvPicPr/>
          <p:nvPr/>
        </p:nvPicPr>
        <p:blipFill>
          <a:blip r:embed="rId1"/>
          <a:stretch/>
        </p:blipFill>
        <p:spPr>
          <a:xfrm>
            <a:off x="365040" y="1554120"/>
            <a:ext cx="8407440" cy="4591080"/>
          </a:xfrm>
          <a:prstGeom prst="rect">
            <a:avLst/>
          </a:prstGeom>
          <a:ln w="38160">
            <a:solidFill>
              <a:srgbClr val="7030a0"/>
            </a:solidFill>
            <a:miter/>
          </a:ln>
        </p:spPr>
      </p:pic>
      <p:pic>
        <p:nvPicPr>
          <p:cNvPr id="416"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18"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Colliding with the old man was not part of his plan – in fact running through the market wasn’t either – but the man was sprawled across the cobbled street. Of course, he helped the man to his feet, apologised and ran off – or he would have if the man hadn’t said,” Merlin is coming!” That’s the third time today someone has said that to me he thought  - why? The old man plucked at his shirt sleeve and repeated “Merlin is coming!” There was no mistake, somehow Merlin was important but what was more important was the gang of thugs hurtling towards him – he had to leave! He nodded to the old man; shot off through the crowd and on towards the quay.</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ere did the collision with the old man happen?</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does the old man say?</a:t>
            </a:r>
            <a:endParaRPr b="0" lang="en-US" sz="2000" spc="-1" strike="noStrike">
              <a:solidFill>
                <a:srgbClr val="000000"/>
              </a:solidFill>
              <a:latin typeface="Comic Sans MS"/>
            </a:endParaRPr>
          </a:p>
        </p:txBody>
      </p:sp>
      <p:pic>
        <p:nvPicPr>
          <p:cNvPr id="419"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21" name="Content Placeholder 2" descr=""/>
          <p:cNvPicPr/>
          <p:nvPr/>
        </p:nvPicPr>
        <p:blipFill>
          <a:blip r:embed="rId1"/>
          <a:stretch/>
        </p:blipFill>
        <p:spPr>
          <a:xfrm>
            <a:off x="396720" y="1566720"/>
            <a:ext cx="8345520" cy="4578480"/>
          </a:xfrm>
          <a:prstGeom prst="rect">
            <a:avLst/>
          </a:prstGeom>
          <a:ln w="38160">
            <a:solidFill>
              <a:srgbClr val="7030a0"/>
            </a:solidFill>
            <a:miter/>
          </a:ln>
        </p:spPr>
      </p:pic>
      <p:pic>
        <p:nvPicPr>
          <p:cNvPr id="422"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24"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The stone castle towered over the countryside – a formidable presence in the lush, green land. Tall, slender towers with narrow arrow slits stared at the horizon. Encircling the castle, a moat brim-full of murky water only passable when the wood and iron drawbridge was lowered. Centuries had passed, the castle had defeated all who had attempted to breach its walls but now there was a new threat. Something sinister which didn’t need a drawbridge to enter; didn’t need an army – something which just let itself in and made itself at home. No one could see it, nor hear it but they knew it was there.</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ere is the castle?</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does the moat contain?</a:t>
            </a:r>
            <a:endParaRPr b="0" lang="en-US" sz="2000" spc="-1" strike="noStrike">
              <a:solidFill>
                <a:srgbClr val="000000"/>
              </a:solidFill>
              <a:latin typeface="Comic Sans MS"/>
            </a:endParaRPr>
          </a:p>
        </p:txBody>
      </p:sp>
      <p:pic>
        <p:nvPicPr>
          <p:cNvPr id="425"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27" name="Content Placeholder 2" descr=""/>
          <p:cNvPicPr/>
          <p:nvPr/>
        </p:nvPicPr>
        <p:blipFill>
          <a:blip r:embed="rId1"/>
          <a:stretch/>
        </p:blipFill>
        <p:spPr>
          <a:xfrm>
            <a:off x="396720" y="1566720"/>
            <a:ext cx="8406000" cy="4578480"/>
          </a:xfrm>
          <a:prstGeom prst="rect">
            <a:avLst/>
          </a:prstGeom>
          <a:ln w="38160">
            <a:solidFill>
              <a:srgbClr val="7030a0"/>
            </a:solidFill>
            <a:miter/>
          </a:ln>
        </p:spPr>
      </p:pic>
      <p:pic>
        <p:nvPicPr>
          <p:cNvPr id="428"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30"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70c0"/>
                </a:solidFill>
                <a:uFillTx/>
                <a:latin typeface="Comic Sans MS"/>
              </a:rPr>
              <a:t>Flute</a:t>
            </a:r>
            <a:endParaRPr b="0" lang="en-US" sz="24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omic Sans MS"/>
              </a:rPr>
              <a:t>The flute is a member of a family of musical instruments in the woodwind group. Sound is produced with a vibrating column of air. A flute produces sound when the player's air flows across an opening. A person who plays a flute is called a flautist. Flutes can be made from a range of materials: bone; metal; reed and wood. Simple flutes were used in the Paleolithic era in Europe.</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ich family of musical instruments does a flute belong to?</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is a flautist?</a:t>
            </a:r>
            <a:endParaRPr b="0" lang="en-US" sz="2000" spc="-1" strike="noStrike">
              <a:solidFill>
                <a:srgbClr val="000000"/>
              </a:solidFill>
              <a:latin typeface="Comic Sans MS"/>
            </a:endParaRPr>
          </a:p>
        </p:txBody>
      </p:sp>
      <p:pic>
        <p:nvPicPr>
          <p:cNvPr id="431"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33" name="Content Placeholder 2" descr=""/>
          <p:cNvPicPr/>
          <p:nvPr/>
        </p:nvPicPr>
        <p:blipFill>
          <a:blip r:embed="rId1"/>
          <a:stretch/>
        </p:blipFill>
        <p:spPr>
          <a:xfrm>
            <a:off x="365040" y="1554120"/>
            <a:ext cx="8425080" cy="4591080"/>
          </a:xfrm>
          <a:prstGeom prst="rect">
            <a:avLst/>
          </a:prstGeom>
          <a:ln w="38160">
            <a:solidFill>
              <a:srgbClr val="7030a0"/>
            </a:solidFill>
            <a:miter/>
          </a:ln>
        </p:spPr>
      </p:pic>
      <p:pic>
        <p:nvPicPr>
          <p:cNvPr id="434"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36"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Play Cricket!</a:t>
            </a:r>
            <a:endParaRPr b="0" lang="en-US" sz="32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Why don’t you come to Kettleby Cricket Ground [KCG] this weekend for a free training session? We have county level coaches just waiting to pass on their knowledge and experience to today’s youngsters [minimum age 7 years]. No previous experience is necessary, just wear suitable footwear and bring plenty of enthusiasm. We will provide a free lunch and TWO hours free coaching.</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We look forward to meeting you on Sunday 4</a:t>
            </a:r>
            <a:r>
              <a:rPr b="0" lang="en-GB" sz="2000" spc="-1" strike="noStrike" baseline="30000">
                <a:solidFill>
                  <a:srgbClr val="0070c0"/>
                </a:solidFill>
                <a:latin typeface="Comic Sans MS"/>
              </a:rPr>
              <a:t>th</a:t>
            </a:r>
            <a:r>
              <a:rPr b="0" lang="en-GB" sz="2000" spc="-1" strike="noStrike">
                <a:solidFill>
                  <a:srgbClr val="0070c0"/>
                </a:solidFill>
                <a:latin typeface="Comic Sans MS"/>
              </a:rPr>
              <a:t> April. at 10am.</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ere is the event taking place?</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ow old must you be to take part?</a:t>
            </a:r>
            <a:endParaRPr b="0" lang="en-US" sz="2000" spc="-1" strike="noStrike">
              <a:solidFill>
                <a:srgbClr val="000000"/>
              </a:solidFill>
              <a:latin typeface="Comic Sans MS"/>
            </a:endParaRPr>
          </a:p>
        </p:txBody>
      </p:sp>
      <p:pic>
        <p:nvPicPr>
          <p:cNvPr id="437"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Contents</a:t>
            </a:r>
            <a:endParaRPr b="0" lang="en-US" sz="4400" spc="-1" strike="noStrike">
              <a:solidFill>
                <a:srgbClr val="000000"/>
              </a:solidFill>
              <a:latin typeface="Comic Sans MS"/>
            </a:endParaRPr>
          </a:p>
        </p:txBody>
      </p:sp>
      <p:sp>
        <p:nvSpPr>
          <p:cNvPr id="380"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lide 3 – Teacher Guidance</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lides 4 – 6 Model using SQUIN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lides 7 – 16 Fiction paragraphs and questions to use SQUIN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lides 17 – 26 Non fiction paragraphs and questions to use SQUIN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39" name="Content Placeholder 2" descr=""/>
          <p:cNvPicPr/>
          <p:nvPr/>
        </p:nvPicPr>
        <p:blipFill>
          <a:blip r:embed="rId1"/>
          <a:stretch/>
        </p:blipFill>
        <p:spPr>
          <a:xfrm>
            <a:off x="304920" y="1523880"/>
            <a:ext cx="8491320" cy="4621320"/>
          </a:xfrm>
          <a:prstGeom prst="rect">
            <a:avLst/>
          </a:prstGeom>
          <a:ln w="38160">
            <a:solidFill>
              <a:srgbClr val="7030a0"/>
            </a:solidFill>
            <a:miter/>
          </a:ln>
        </p:spPr>
      </p:pic>
      <p:pic>
        <p:nvPicPr>
          <p:cNvPr id="440"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42"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The accident happened ten minutes after midnight on the Bandstand in the park. Several youths had been playing with fireworks; a rocket landed on the wooden roof setting it alight. The roof collapsed on the youths, killing one outright and seriously injuring two others. The alarm was raised by a passer-by who gave first aid to the injured teenagers. The fires service are dampening down the bandstand and the police are investigating tie incident and may prosecute the youths. </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en did the accident occur?</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o raised the alarm?</a:t>
            </a:r>
            <a:endParaRPr b="0" lang="en-US" sz="2000" spc="-1" strike="noStrike">
              <a:solidFill>
                <a:srgbClr val="000000"/>
              </a:solidFill>
              <a:latin typeface="Comic Sans MS"/>
            </a:endParaRPr>
          </a:p>
        </p:txBody>
      </p:sp>
      <p:pic>
        <p:nvPicPr>
          <p:cNvPr id="443"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45" name="Content Placeholder 2" descr=""/>
          <p:cNvPicPr/>
          <p:nvPr/>
        </p:nvPicPr>
        <p:blipFill>
          <a:blip r:embed="rId1"/>
          <a:stretch/>
        </p:blipFill>
        <p:spPr>
          <a:xfrm>
            <a:off x="396720" y="1566720"/>
            <a:ext cx="8406000" cy="4578480"/>
          </a:xfrm>
          <a:prstGeom prst="rect">
            <a:avLst/>
          </a:prstGeom>
          <a:ln w="38160">
            <a:solidFill>
              <a:srgbClr val="7030a0"/>
            </a:solidFill>
            <a:miter/>
          </a:ln>
        </p:spPr>
      </p:pic>
      <p:pic>
        <p:nvPicPr>
          <p:cNvPr id="446"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48"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14</a:t>
            </a:r>
            <a:r>
              <a:rPr b="0" lang="en-GB" sz="2000" spc="-1" strike="noStrike" baseline="30000">
                <a:solidFill>
                  <a:srgbClr val="0070c0"/>
                </a:solidFill>
                <a:latin typeface="Comic Sans MS"/>
              </a:rPr>
              <a:t>th</a:t>
            </a:r>
            <a:r>
              <a:rPr b="0" lang="en-GB" sz="2000" spc="-1" strike="noStrike">
                <a:solidFill>
                  <a:srgbClr val="0070c0"/>
                </a:solidFill>
                <a:latin typeface="Comic Sans MS"/>
              </a:rPr>
              <a:t> April 1915</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We are having such a lovely time crossing the Atlantic on the RMS Titanic. Mama says it is the most luxurious ship in the whole world. Papa spends ages in the smoking room, he says he is making business contacts but I think he is avoiding Mama. Today I was allowed to go in the swimming pool – imagine that a swimming pool on a boat! I have my own cabin with a pretty dressing-table at which I sit when I brush my hair every night – 100 strokes without fail! The food is amazing and Mama has allowed me to wear both my new silk dresses with matching ribbons.</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ere does Papa spend his time?</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ow many new silk dresses does the writer have?</a:t>
            </a:r>
            <a:endParaRPr b="0" lang="en-US" sz="2000" spc="-1" strike="noStrike">
              <a:solidFill>
                <a:srgbClr val="000000"/>
              </a:solidFill>
              <a:latin typeface="Comic Sans MS"/>
            </a:endParaRPr>
          </a:p>
        </p:txBody>
      </p:sp>
      <p:pic>
        <p:nvPicPr>
          <p:cNvPr id="449"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51" name="Content Placeholder 2" descr=""/>
          <p:cNvPicPr/>
          <p:nvPr/>
        </p:nvPicPr>
        <p:blipFill>
          <a:blip r:embed="rId1"/>
          <a:stretch/>
        </p:blipFill>
        <p:spPr>
          <a:xfrm>
            <a:off x="396720" y="1566720"/>
            <a:ext cx="8418600" cy="4578480"/>
          </a:xfrm>
          <a:prstGeom prst="rect">
            <a:avLst/>
          </a:prstGeom>
          <a:ln w="38160">
            <a:solidFill>
              <a:srgbClr val="7030a0"/>
            </a:solidFill>
            <a:miter/>
          </a:ln>
        </p:spPr>
      </p:pic>
      <p:pic>
        <p:nvPicPr>
          <p:cNvPr id="452"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54"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70c0"/>
                </a:solidFill>
                <a:uFillTx/>
                <a:latin typeface="Comic Sans MS"/>
              </a:rPr>
              <a:t>How do hot air balloons fly?</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Comic Sans MS"/>
              </a:rPr>
              <a:t>Hot air balloons work because hot air rises. Heat is created by fire or gas and fills the balloon to cause it to fly. Before the flight the balloon is laid out on the ground and partially filled with cold air. Next hot air is created by the burners inside the basket which causes the balloon to inflate. During flight, the pilot pulls on ropes to rotate the balloon or let out air.</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at makes a hot air balloon fly?</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does the pilot control the balloon?</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55"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57" name="Content Placeholder 2" descr=""/>
          <p:cNvPicPr/>
          <p:nvPr/>
        </p:nvPicPr>
        <p:blipFill>
          <a:blip r:embed="rId1"/>
          <a:stretch/>
        </p:blipFill>
        <p:spPr>
          <a:xfrm>
            <a:off x="365040" y="1554120"/>
            <a:ext cx="8467920" cy="4591080"/>
          </a:xfrm>
          <a:prstGeom prst="rect">
            <a:avLst/>
          </a:prstGeom>
          <a:ln w="38160">
            <a:solidFill>
              <a:srgbClr val="7030a0"/>
            </a:solidFill>
            <a:miter/>
          </a:ln>
        </p:spPr>
      </p:pic>
      <p:pic>
        <p:nvPicPr>
          <p:cNvPr id="458"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
          <p:cNvPicPr/>
          <p:nvPr/>
        </p:nvPicPr>
        <p:blipFill>
          <a:blip r:embed="rId1"/>
          <a:stretch/>
        </p:blipFill>
        <p:spPr>
          <a:xfrm>
            <a:off x="2244600" y="1101600"/>
            <a:ext cx="4654800" cy="465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Guidance</a:t>
            </a:r>
            <a:endParaRPr b="0" lang="en-US" sz="4400" spc="-1" strike="noStrike">
              <a:solidFill>
                <a:srgbClr val="000000"/>
              </a:solidFill>
              <a:latin typeface="Comic Sans MS"/>
            </a:endParaRPr>
          </a:p>
        </p:txBody>
      </p:sp>
      <p:sp>
        <p:nvSpPr>
          <p:cNvPr id="382"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PowerPoint gives questions and paragraphs to rehearse using SQUINT [see Text Retrieval 1 PowerPoin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upplement these texts with ones to suit the needs of your class.</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384"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ollowing behind Josh, Robbie stumbled along the path – he hoped that Josh knew what he was doing.</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Who is leading the way?</a:t>
            </a:r>
            <a:endParaRPr b="0" lang="en-US" sz="3200" spc="-1" strike="noStrike">
              <a:solidFill>
                <a:srgbClr val="000000"/>
              </a:solidFill>
              <a:latin typeface="Comic Sans MS"/>
            </a:endParaRPr>
          </a:p>
        </p:txBody>
      </p:sp>
      <p:pic>
        <p:nvPicPr>
          <p:cNvPr id="385"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387"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ollowing behind Josh, Robbie stumbled along the path – he hoped that Josh knew what he was doing.</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Who is leading the way?</a:t>
            </a:r>
            <a:endParaRPr b="0" lang="en-US" sz="3200" spc="-1" strike="noStrike">
              <a:solidFill>
                <a:srgbClr val="000000"/>
              </a:solidFill>
              <a:latin typeface="Comic Sans MS"/>
            </a:endParaRPr>
          </a:p>
        </p:txBody>
      </p:sp>
      <p:pic>
        <p:nvPicPr>
          <p:cNvPr id="388" name="Picture 4" descr=""/>
          <p:cNvPicPr/>
          <p:nvPr/>
        </p:nvPicPr>
        <p:blipFill>
          <a:blip r:embed="rId1"/>
          <a:stretch/>
        </p:blipFill>
        <p:spPr>
          <a:xfrm>
            <a:off x="7740720" y="515880"/>
            <a:ext cx="662040" cy="662040"/>
          </a:xfrm>
          <a:prstGeom prst="rect">
            <a:avLst/>
          </a:prstGeom>
          <a:ln w="0">
            <a:noFill/>
          </a:ln>
        </p:spPr>
      </p:pic>
      <p:sp>
        <p:nvSpPr>
          <p:cNvPr id="389" name="Speech Bubble: Rectangle 4"/>
          <p:cNvSpPr/>
          <p:nvPr/>
        </p:nvSpPr>
        <p:spPr>
          <a:xfrm>
            <a:off x="5324400" y="3213000"/>
            <a:ext cx="2735280" cy="2525760"/>
          </a:xfrm>
          <a:prstGeom prst="wedgeRectCallout">
            <a:avLst>
              <a:gd name="adj1" fmla="val -96810"/>
              <a:gd name="adj2" fmla="val -7052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 – start by reading the text</a:t>
            </a:r>
            <a:endParaRPr b="0" lang="en-US" sz="3200" spc="-1" strike="noStrike">
              <a:solidFill>
                <a:srgbClr val="000000"/>
              </a:solidFill>
              <a:latin typeface="Arial"/>
            </a:endParaRPr>
          </a:p>
        </p:txBody>
      </p:sp>
      <p:sp>
        <p:nvSpPr>
          <p:cNvPr id="390" name="Speech Bubble: Rectangle 5"/>
          <p:cNvSpPr/>
          <p:nvPr/>
        </p:nvSpPr>
        <p:spPr>
          <a:xfrm>
            <a:off x="585720" y="4591080"/>
            <a:ext cx="2305080" cy="2232000"/>
          </a:xfrm>
          <a:prstGeom prst="wedgeRectCallout">
            <a:avLst>
              <a:gd name="adj1" fmla="val 85861"/>
              <a:gd name="adj2" fmla="val -623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Q – read the question carefully</a:t>
            </a:r>
            <a:endParaRPr b="0" lang="en-US" sz="2400" spc="-1" strike="noStrike">
              <a:solidFill>
                <a:srgbClr val="000000"/>
              </a:solidFill>
              <a:latin typeface="Arial"/>
            </a:endParaRPr>
          </a:p>
        </p:txBody>
      </p:sp>
      <p:sp>
        <p:nvSpPr>
          <p:cNvPr id="391" name="Speech Bubble: Rectangle 6"/>
          <p:cNvSpPr/>
          <p:nvPr/>
        </p:nvSpPr>
        <p:spPr>
          <a:xfrm>
            <a:off x="34920" y="378000"/>
            <a:ext cx="2305080" cy="2232000"/>
          </a:xfrm>
          <a:prstGeom prst="wedgeRectCallout">
            <a:avLst>
              <a:gd name="adj1" fmla="val 83990"/>
              <a:gd name="adj2" fmla="val 100759"/>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U – underline the key words in the ques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xit" presetID="1">
                                  <p:stCondLst>
                                    <p:cond delay="0"/>
                                  </p:stCondLst>
                                  <p:childTnLst>
                                    <p:set>
                                      <p:cBhvr>
                                        <p:cTn id="10" dur="1" fill="hold">
                                          <p:stCondLst>
                                            <p:cond delay="0"/>
                                          </p:stCondLst>
                                        </p:cTn>
                                        <p:tgtEl>
                                          <p:spTgt spid="389"/>
                                        </p:tgtEl>
                                        <p:attrNameLst>
                                          <p:attrName>style.visibility</p:attrName>
                                        </p:attrNameLst>
                                      </p:cBhvr>
                                      <p:to>
                                        <p:strVal val="hidden"/>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9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
                                  <p:stCondLst>
                                    <p:cond delay="0"/>
                                  </p:stCondLst>
                                  <p:childTnLst>
                                    <p:set>
                                      <p:cBhvr>
                                        <p:cTn id="18" dur="1" fill="hold">
                                          <p:stCondLst>
                                            <p:cond delay="0"/>
                                          </p:stCondLst>
                                        </p:cTn>
                                        <p:tgtEl>
                                          <p:spTgt spid="390"/>
                                        </p:tgtEl>
                                        <p:attrNameLst>
                                          <p:attrName>style.visibility</p:attrName>
                                        </p:attrNameLst>
                                      </p:cBhvr>
                                      <p:to>
                                        <p:strVal val="hidden"/>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393"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ollowing behind Josh, Robbie stumbled along the path – he hoped that Josh knew what he was doing.</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70c0"/>
                </a:solidFill>
                <a:uFillTx/>
                <a:latin typeface="Comic Sans MS"/>
              </a:rPr>
              <a:t>Who</a:t>
            </a:r>
            <a:r>
              <a:rPr b="0" lang="en-GB" sz="3200" spc="-1" strike="noStrike">
                <a:solidFill>
                  <a:srgbClr val="0070c0"/>
                </a:solidFill>
                <a:latin typeface="Comic Sans MS"/>
              </a:rPr>
              <a:t> is </a:t>
            </a:r>
            <a:r>
              <a:rPr b="0" lang="en-GB" sz="3200" spc="-1" strike="noStrike" u="sng">
                <a:solidFill>
                  <a:srgbClr val="0070c0"/>
                </a:solidFill>
                <a:uFillTx/>
                <a:latin typeface="Comic Sans MS"/>
              </a:rPr>
              <a:t>leading </a:t>
            </a:r>
            <a:r>
              <a:rPr b="0" lang="en-GB" sz="3200" spc="-1" strike="noStrike">
                <a:solidFill>
                  <a:srgbClr val="0070c0"/>
                </a:solidFill>
                <a:latin typeface="Comic Sans MS"/>
              </a:rPr>
              <a:t>the way?</a:t>
            </a:r>
            <a:endParaRPr b="0" lang="en-US" sz="3200" spc="-1" strike="noStrike">
              <a:solidFill>
                <a:srgbClr val="000000"/>
              </a:solidFill>
              <a:latin typeface="Comic Sans MS"/>
            </a:endParaRPr>
          </a:p>
        </p:txBody>
      </p:sp>
      <p:pic>
        <p:nvPicPr>
          <p:cNvPr id="394" name="Picture 4" descr=""/>
          <p:cNvPicPr/>
          <p:nvPr/>
        </p:nvPicPr>
        <p:blipFill>
          <a:blip r:embed="rId1"/>
          <a:stretch/>
        </p:blipFill>
        <p:spPr>
          <a:xfrm>
            <a:off x="7740720" y="515880"/>
            <a:ext cx="662040" cy="662040"/>
          </a:xfrm>
          <a:prstGeom prst="rect">
            <a:avLst/>
          </a:prstGeom>
          <a:ln w="0">
            <a:noFill/>
          </a:ln>
        </p:spPr>
      </p:pic>
      <p:sp>
        <p:nvSpPr>
          <p:cNvPr id="395" name="Speech Bubble: Rectangle 4"/>
          <p:cNvSpPr/>
          <p:nvPr/>
        </p:nvSpPr>
        <p:spPr>
          <a:xfrm>
            <a:off x="7380360" y="1658880"/>
            <a:ext cx="1655640" cy="2417760"/>
          </a:xfrm>
          <a:prstGeom prst="wedgeRectCallout">
            <a:avLst>
              <a:gd name="adj1" fmla="val -142523"/>
              <a:gd name="adj2" fmla="val -31921"/>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I – identify the key words in the text</a:t>
            </a:r>
            <a:endParaRPr b="0" lang="en-US" sz="2400" spc="-1" strike="noStrike">
              <a:solidFill>
                <a:srgbClr val="000000"/>
              </a:solidFill>
              <a:latin typeface="Arial"/>
            </a:endParaRPr>
          </a:p>
        </p:txBody>
      </p:sp>
      <p:sp>
        <p:nvSpPr>
          <p:cNvPr id="396" name="Speech Bubble: Rectangle 5"/>
          <p:cNvSpPr/>
          <p:nvPr/>
        </p:nvSpPr>
        <p:spPr>
          <a:xfrm>
            <a:off x="203040" y="4243320"/>
            <a:ext cx="2303640" cy="2232000"/>
          </a:xfrm>
          <a:prstGeom prst="wedgeRectCallout">
            <a:avLst>
              <a:gd name="adj1" fmla="val 87361"/>
              <a:gd name="adj2" fmla="val -82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 – take the information and answer the question</a:t>
            </a:r>
            <a:endParaRPr b="0" lang="en-US" sz="2400" spc="-1" strike="noStrike">
              <a:solidFill>
                <a:srgbClr val="000000"/>
              </a:solidFill>
              <a:latin typeface="Arial"/>
            </a:endParaRPr>
          </a:p>
        </p:txBody>
      </p:sp>
      <p:sp>
        <p:nvSpPr>
          <p:cNvPr id="397" name="Speech Bubble: Rectangle 6"/>
          <p:cNvSpPr/>
          <p:nvPr/>
        </p:nvSpPr>
        <p:spPr>
          <a:xfrm>
            <a:off x="4284720" y="3025800"/>
            <a:ext cx="2303280" cy="2232000"/>
          </a:xfrm>
          <a:prstGeom prst="wedgeRectCallout">
            <a:avLst>
              <a:gd name="adj1" fmla="val -84476"/>
              <a:gd name="adj2" fmla="val -47638"/>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N – next read round the key words</a:t>
            </a:r>
            <a:endParaRPr b="0" lang="en-US" sz="2400" spc="-1" strike="noStrike">
              <a:solidFill>
                <a:srgbClr val="000000"/>
              </a:solidFill>
              <a:latin typeface="Arial"/>
            </a:endParaRPr>
          </a:p>
        </p:txBody>
      </p:sp>
      <p:sp>
        <p:nvSpPr>
          <p:cNvPr id="398" name="Rectangle 7"/>
          <p:cNvSpPr/>
          <p:nvPr/>
        </p:nvSpPr>
        <p:spPr>
          <a:xfrm>
            <a:off x="3095640" y="4869000"/>
            <a:ext cx="2952720" cy="10080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Answer - Jo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9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395"/>
                                        </p:tgtEl>
                                        <p:attrNameLst>
                                          <p:attrName>style.visibility</p:attrName>
                                        </p:attrNameLst>
                                      </p:cBhvr>
                                      <p:to>
                                        <p:strVal val="hidden"/>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9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39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9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1">
                                  <p:stCondLst>
                                    <p:cond delay="0"/>
                                  </p:stCondLst>
                                  <p:childTnLst>
                                    <p:set>
                                      <p:cBhvr>
                                        <p:cTn id="48" dur="1" fill="hold">
                                          <p:stCondLst>
                                            <p:cond delay="0"/>
                                          </p:stCondLst>
                                        </p:cTn>
                                        <p:tgtEl>
                                          <p:spTgt spid="396"/>
                                        </p:tgtEl>
                                        <p:attrNameLst>
                                          <p:attrName>style.visibility</p:attrName>
                                        </p:attrNameLst>
                                      </p:cBhvr>
                                      <p:to>
                                        <p:strVal val="hidden"/>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2">
                                  <p:stCondLst>
                                    <p:cond delay="0"/>
                                  </p:stCondLst>
                                  <p:childTnLst>
                                    <p:set>
                                      <p:cBhvr>
                                        <p:cTn id="52" dur="1" fill="hold">
                                          <p:stCondLst>
                                            <p:cond delay="0"/>
                                          </p:stCondLst>
                                        </p:cTn>
                                        <p:tgtEl>
                                          <p:spTgt spid="398"/>
                                        </p:tgtEl>
                                        <p:attrNameLst>
                                          <p:attrName>style.visibility</p:attrName>
                                        </p:attrNameLst>
                                      </p:cBhvr>
                                      <p:to>
                                        <p:strVal val="visible"/>
                                      </p:to>
                                    </p:set>
                                    <p:animEffect filter="fade" transition="in">
                                      <p:cBhvr additive="repl">
                                        <p:cTn id="53" dur="1000"/>
                                        <p:tgtEl>
                                          <p:spTgt spid="398"/>
                                        </p:tgtEl>
                                      </p:cBhvr>
                                    </p:animEffect>
                                    <p:anim calcmode="lin" valueType="num">
                                      <p:cBhvr additive="repl">
                                        <p:cTn id="54" dur="1000" fill="hold"/>
                                        <p:tgtEl>
                                          <p:spTgt spid="398"/>
                                        </p:tgtEl>
                                        <p:attrNameLst>
                                          <p:attrName>ppt_x</p:attrName>
                                        </p:attrNameLst>
                                      </p:cBhvr>
                                      <p:tavLst>
                                        <p:tav tm="0">
                                          <p:val>
                                            <p:strVal val="#ppt_x"/>
                                          </p:val>
                                        </p:tav>
                                        <p:tav tm="100000">
                                          <p:val>
                                            <p:strVal val="#ppt_x"/>
                                          </p:val>
                                        </p:tav>
                                      </p:tavLst>
                                    </p:anim>
                                    <p:anim calcmode="lin" valueType="num">
                                      <p:cBhvr additive="repl">
                                        <p:cTn id="55" dur="1000" fill="hold"/>
                                        <p:tgtEl>
                                          <p:spTgt spid="3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00"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mic Sans MS"/>
                <a:ea typeface="Arial Unicode MS"/>
              </a:rPr>
              <a:t>Frantically, Molly wriggled, trying to avoid Georgina’s grasping hands but failed, they had her. “Don’t know what you others are hanging about for, nothing to see here and don’t you forget it or else...” The other fourth formers needed no further encouragement - they fled.</a:t>
            </a:r>
            <a:r>
              <a:rPr b="0" lang="en-GB" sz="1800" spc="-1" strike="noStrike">
                <a:solidFill>
                  <a:srgbClr val="0070c0"/>
                </a:solidFill>
                <a:latin typeface="Comic Sans MS"/>
                <a:ea typeface="Arial Unicode MS"/>
              </a:rPr>
              <a:t> </a:t>
            </a:r>
            <a:r>
              <a:rPr b="0" lang="en-US" sz="1800" spc="-1" strike="noStrike">
                <a:solidFill>
                  <a:srgbClr val="0070c0"/>
                </a:solidFill>
                <a:latin typeface="Comic Sans MS"/>
                <a:ea typeface="Arial Unicode MS"/>
              </a:rPr>
              <a:t>Molly was frog-marched along the corridor, down the stone steps to the cloakroom. It was empty apart from rows of pegs with various outdoor garments draped over them and random piles of muddy wellies and outdoor shoes.</a:t>
            </a:r>
            <a:endParaRPr b="0" lang="en-US" sz="1800" spc="-1" strike="noStrike">
              <a:solidFill>
                <a:srgbClr val="000000"/>
              </a:solidFill>
              <a:latin typeface="Comic Sans MS"/>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Unicode MS"/>
              </a:rPr>
              <a:t>Who is Molly trying to avoid?</a:t>
            </a:r>
            <a:endParaRPr b="0" lang="en-US" sz="1800" spc="-1" strike="noStrike">
              <a:solidFill>
                <a:srgbClr val="000000"/>
              </a:solidFill>
              <a:latin typeface="Comic Sans MS"/>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Unicode MS"/>
              </a:rPr>
              <a:t>Where is Molly taken?</a:t>
            </a:r>
            <a:endParaRPr b="0" lang="en-US" sz="1800" spc="-1" strike="noStrike">
              <a:solidFill>
                <a:srgbClr val="0000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401"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03" name="Content Placeholder 2" descr=""/>
          <p:cNvPicPr/>
          <p:nvPr/>
        </p:nvPicPr>
        <p:blipFill>
          <a:blip r:embed="rId1"/>
          <a:stretch/>
        </p:blipFill>
        <p:spPr>
          <a:xfrm>
            <a:off x="407880" y="1584360"/>
            <a:ext cx="8334360" cy="4560840"/>
          </a:xfrm>
          <a:prstGeom prst="rect">
            <a:avLst/>
          </a:prstGeom>
          <a:ln w="38160">
            <a:solidFill>
              <a:srgbClr val="7030a0"/>
            </a:solidFill>
            <a:miter/>
          </a:ln>
        </p:spPr>
      </p:pic>
      <p:pic>
        <p:nvPicPr>
          <p:cNvPr id="404"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06"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ea typeface="Calibri"/>
              </a:rPr>
              <a:t>Miss Clayborne nodded her agreement to the plan, although she felt that this 'look and see' visit had become more of a forensic examination. Miss Jones had already begun by pulling on plastic gloves which she had produced from her coat pocket. Next, she knelt down with a large magnifying glass (from another pocket) to scrutinise the scorch marks to her left. Miss Clayborne donned her gardening gloves and stared intently at the ground; she was not entirely sure what she was looking for but felt that if she saw anything at all, it would be unusual.</a:t>
            </a:r>
            <a:endParaRPr b="0" lang="en-US" sz="20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libri"/>
              </a:rPr>
              <a:t>Who wears plastic gloves?</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libri"/>
              </a:rPr>
              <a:t>What is Miss Clayborne looking for?</a:t>
            </a:r>
            <a:endParaRPr b="0" lang="en-US" sz="2400" spc="-1" strike="noStrike">
              <a:solidFill>
                <a:srgbClr val="000000"/>
              </a:solidFill>
              <a:latin typeface="Comic Sans MS"/>
            </a:endParaRPr>
          </a:p>
        </p:txBody>
      </p:sp>
      <p:pic>
        <p:nvPicPr>
          <p:cNvPr id="407"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7-21T10:27:10Z</dcterms:created>
  <dc:creator>Anne</dc:creator>
  <dc:description/>
  <dc:language>en-US</dc:language>
  <cp:lastModifiedBy>anne.pillar@gmail.com</cp:lastModifiedBy>
  <dcterms:modified xsi:type="dcterms:W3CDTF">2023-05-29T12:25:56Z</dcterms:modified>
  <cp:revision>30</cp:revision>
  <dc:subject/>
  <dc:title>Slide 1</dc:title>
</cp:coreProperties>
</file>